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DFA507-DA95-4676-AB95-F1330477E8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7DA227-0793-445F-A000-B3D04E5CF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1456B5-0C37-4D0C-AAF1-6DF373C92638}" type="slidenum">
              <a:rPr b="0" lang="en-US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9D0F44-EEC4-4094-9313-9A3E09DF99A3}" type="slidenum">
              <a:rPr b="0" lang="en-US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2811-6ABF-49E7-84B1-4F90340F4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A3BF-4EE7-45CF-A743-09436505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16D010-08D4-4546-A175-5F5A7F61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96CBFA-89F9-4D74-B670-505247E6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3B298C-01D3-4A4D-AC19-77F6120B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64F2B5-2EAF-43C8-A424-7D213CCF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24B446-E032-4AF3-9707-BA4468AD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CD80B7-47D7-47DB-B63F-BDCA90B6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0D5025-0948-46C8-A5CD-3663529A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028117-A65E-4167-A00A-FDD6EF01A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DAF32C-0498-4C8E-A527-4F3E2F577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9B78E1-F4B2-4F6E-AF45-C7ECF2AEC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1F0B-80B5-423B-95CC-5EE36A07B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19684E-AD16-4D82-B5FC-7EF013D6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0FCD8D-AD78-4A27-9926-9F9F4ACD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410BEB-DCCF-4196-BD08-F2C19795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5ACA6E-EFF2-4FA0-BC3B-BA0DC034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1C1A81-7906-4B6E-AAF8-B014E016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C5BC4A-2AA8-4D6C-8F10-44A85B33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4122BE-3616-47EC-991C-B0A9F617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458FCA-C1DF-457E-9731-BC6E29AB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AB716D-394D-4F64-9290-3D6AF196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9DD7FC-8B71-4747-918E-252583331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28CB-DF10-42D8-8A6A-1C97E37EA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9C2D79-BA72-402B-A6D3-3EA85C01E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0C034A0-A890-48DE-9816-706801C9E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DD2CA69-2193-4350-9A16-CEF9682D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2337A5E-DDA3-456C-8593-4951D808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22F388A-A6D6-4CB3-93EF-0DB2C5BB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E7CD878-A8FB-4377-829F-574482CB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DB28464-B64F-4CAA-9AE0-DF562E79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40A1B1E-47B3-49C6-B2B2-4344238C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6C95D3F-DA07-431C-9B0E-EFEB8FF9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500CD3D-267B-437F-AE48-4C0083D4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5447-E013-4D13-A2FF-EE77ED27B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4596AB8-BD79-453F-9B0F-D39261D3B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9E0D12A-7949-4AFC-966A-FB7FC7CDC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F6E1F4F-AA6A-4FAF-B74A-D16A338E4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5E7D0-8E17-443D-B244-171534C1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15C9-CD55-4638-8E2D-2B7C6C8A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A1C8-578B-47D5-87E1-F6C42170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CA8BE-5FBA-482C-B144-7D5CA915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4E85-C1D7-4D6F-B2EB-22563945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664C-BDFE-4763-B56F-B341B597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5803-41CE-4094-A0E3-71A5AE31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A90F-FF0B-464F-B590-EF109420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17C4-DEA4-418F-9F10-06147140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D2F9-FC94-457D-8F6B-13FFBB36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EA4F-4FB2-4DD5-AF2A-D3B53F36A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F7FE9-2C5F-4E76-A6F8-B0F0A7B80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900C8-CCC3-4334-9BA9-C32A964CD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F614C-3288-4F71-8333-E9833A5F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AE371-9338-4A68-9286-EB45F78C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F9CA0-9C87-46DB-BA45-984112FC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DE7FC-76EF-4C9A-9E28-26970160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5A8B-0A6D-4BD4-8253-7C6680DDA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E9A2A-06FC-4652-A02D-A0277716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895B5-EA82-4595-9BF5-C1191B13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53854-62E4-48F8-ACFD-AA776869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763DB-4397-4081-B94A-F39CB3A7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16B8F-11AA-46A0-B6F0-948EBF92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B6ACF-5164-43A6-BFF2-1FDEDFB6F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6081D-2DC2-42FC-A55A-0FBA01FAD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03695-E2BB-464E-9856-A5AF37714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FAA1D-A351-465A-A9A9-4D0E5A8C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57239-45D4-44C5-95EE-A4D83DEC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23CD-C221-436C-A966-C9D157BD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55B90-7EFE-4E4E-B95B-8F240CB8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3E834-40BB-4068-9FA0-6375C06E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2DE09-78D8-4B9D-881E-AA0FFB23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CB96B-C15B-477E-8708-2A056D1D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093E4-680B-4746-B02A-A448F854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7470A-031F-479D-887A-2D00014B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2E7B5-B9C4-476B-BD51-D5582912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0E134-C6CC-4EC1-8B10-A72B4A9D7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B40AD-AC87-4E8F-B3A4-CD7CFEB49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F9D0B-C765-4694-841C-D6D2A8111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4421-35E4-436C-A703-6BA2768A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C11ED-827E-49A2-B2AC-1B9EE01A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531A9-1966-4335-9978-DACA98A7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9DDD0-45BB-405F-B5C8-2C324520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EA39B-948A-4F9B-8CF7-0E8BCED8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4026B-4D1D-453D-8310-F3B0A7F9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B7B07-BD42-4B4F-B18B-97E20EC9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1C62F-4A6E-48DD-A138-AF8552AE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3369E-92E1-450B-BD2D-CB71A8F1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E3604-B70D-4C96-BCCB-3F63B68F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7198F-414D-4658-B9C6-DFBFEA8B3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09ED-95E3-414F-A6B0-102DDC67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14B25-97AC-4DED-B52E-7AE925529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658D9-C286-4E14-A798-859E26221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C292C-11C8-4BDA-B68B-66B86CD3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BC1D2-43BF-470A-8090-8DF16461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DEBDD-082A-42DF-A638-0C16D9E0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11AF7-CD0A-4463-B461-AEB6E753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EE2BC-05D3-4FF6-BF03-EE65D9E9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57CB3-8F4D-4056-8525-8B6442D7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2C5BD-EA8B-4BDC-8D1D-62A08AA3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186EE-D846-4617-8F18-1E2B1DB8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15D4-85B8-44CA-B638-1A78D766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C817A-1EA3-431D-95EA-555F5352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10BE3-53DD-4A5F-AA01-F3B2A6E82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83B10-2F4B-484C-AD32-FCA0ED047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2AEBB-FE1C-4B1F-9B38-E42137BDC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4F822-9FFA-4502-9736-4374B9D6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224EA-BD0E-45E1-BD0E-6C4974F6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BAD40-FBFC-4C49-964E-B2E95A72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43F28-227A-484A-8823-418459C3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699E3-1795-4D67-9339-9DB3E933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9C9D3-1858-4D42-836B-7385900F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5AF7-4F56-4593-AA7C-9DE3CBE6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99801-DEBA-415C-AC5F-53F44B16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04E5B-5F3D-4DDB-A5BC-07EF040B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B5B93-B484-4119-832B-3AE94217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B87CF-9C22-489C-9642-72D3C9EF6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7A147-6E79-47B5-8D85-60ADBA2EA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F69E3-2339-4E43-AD80-19C2350EA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5F772-0202-4684-93A9-A23ECD7E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BAA66-C96B-4DD1-8D79-53312C45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CE16D-E8A5-48D3-8B1F-BAC7B1F2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38DCA-42E3-49FB-ABE4-7B7D1413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CEA7-A34B-48C6-AE98-5C1E1EF0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3E3B20-8444-4879-B586-9C5582CF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71A39-03F1-4A2F-90F0-C46BDB2D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BAA78-B943-422C-9F84-5F7D05FD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3D17C-1795-4301-8CF4-10BDDE04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F0F1F-25D5-4A81-8B3C-A8DD0771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CA970-B2CA-4D87-A5EA-0535F3D61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21340-1777-417E-8732-7D1600E0F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0FA7DA-DED4-4A33-8DB1-5AF15C628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5EED9B-2334-4663-894B-B20AC565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94168A-89EF-46A1-9447-5A3DB1A4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69696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6A707C-ED11-4D7D-A688-2E39B5A4DA03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24066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F6F68D-8170-4E7F-AF1B-11D9D01D34E6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2671DD-3E04-4200-877A-224E06A49DC6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D75DD4-8285-4017-A29E-2D05341A9FD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Num" idx="31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6D8106-BB4B-4301-9DD5-91809C41AC88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dt" idx="3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7AB349-1B64-48DA-AE78-E758880B6820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3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A8C6A9-7B8B-4942-9282-D0F02BFC2BEA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40A706-FF62-42CE-98A7-047D9139330E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69696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24066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412706-2396-4B50-AB46-4A137EE4E80F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FFDA7C-6A33-478D-8593-643DB0C942D2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B24EE0-3362-47E2-8822-760FD82C2F7F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B01367-C6F6-46BA-BDFE-F526300DE65E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69696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24066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4A668F-ABAB-48B6-AC1A-B8AA5DF6F63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DFE500-C818-42BC-A2CE-310207195CF7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3F18B7-88C8-4C61-8F39-1DFA5E8D32C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124471-6FC5-4627-89A6-80BF84349CD5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69696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24066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670A82-7072-4AAD-8C2F-FB788530C96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CAFB0C-D17E-4DFB-BF8E-EB8D4BE96CD1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B6BB69-4ABA-4898-B687-80AEB6C1AB53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9A30FA-9492-495A-9A27-C70EFED4A48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BDE4A5-DB50-4DE3-8E3E-3BDF22B6E815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7E3EA2-F986-424F-89E5-F63E0C9648D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tzaccone@surewest.net" TargetMode="External"/><Relationship Id="rId2" Type="http://schemas.openxmlformats.org/officeDocument/2006/relationships/hyperlink" Target="mailto:slazarova@psusd.us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itle 1"/>
          <p:cNvSpPr/>
          <p:nvPr/>
        </p:nvSpPr>
        <p:spPr>
          <a:xfrm>
            <a:off x="533520" y="2662200"/>
            <a:ext cx="7985160" cy="1727280"/>
          </a:xfrm>
          <a:prstGeom prst="rect">
            <a:avLst/>
          </a:prstGeom>
          <a:solidFill>
            <a:srgbClr val="ffffff"/>
          </a:solidFill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2236ff"/>
                </a:solidFill>
                <a:latin typeface="Georgia"/>
                <a:ea typeface="ＭＳ Ｐゴシック"/>
              </a:rPr>
              <a:t>Developing College, Career and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2236ff"/>
                </a:solidFill>
                <a:latin typeface="Georgia"/>
                <a:ea typeface="ＭＳ Ｐゴシック"/>
              </a:rPr>
              <a:t>World-Ready Students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Subtitle 2"/>
          <p:cNvSpPr/>
          <p:nvPr/>
        </p:nvSpPr>
        <p:spPr>
          <a:xfrm>
            <a:off x="750960" y="4613400"/>
            <a:ext cx="7653240" cy="15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6600"/>
                </a:solidFill>
                <a:latin typeface="Book Antiqua"/>
              </a:rPr>
              <a:t>Facilitated by:</a:t>
            </a:r>
            <a:r>
              <a:rPr b="0" lang="en-US" sz="2700" spc="-1" strike="noStrike">
                <a:solidFill>
                  <a:srgbClr val="ff6600"/>
                </a:solidFill>
                <a:latin typeface="Book Antiqua"/>
              </a:rPr>
              <a:t>	</a:t>
            </a:r>
            <a:r>
              <a:rPr b="0" lang="en-US" sz="2700" spc="-1" strike="noStrike">
                <a:solidFill>
                  <a:srgbClr val="ff6600"/>
                </a:solidFill>
                <a:latin typeface="Book Antiqua"/>
              </a:rPr>
              <a:t>	</a:t>
            </a:r>
            <a:r>
              <a:rPr b="0" lang="en-US" sz="2700" spc="-1" strike="noStrike">
                <a:solidFill>
                  <a:srgbClr val="ff6600"/>
                </a:solidFill>
                <a:latin typeface="Book Antiqua"/>
              </a:rPr>
              <a:t>Tanya Zaccon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6600"/>
                </a:solidFill>
                <a:latin typeface="Book Antiqua"/>
              </a:rPr>
              <a:t>	</a:t>
            </a:r>
            <a:r>
              <a:rPr b="0" lang="en-US" sz="2700" spc="-1" strike="noStrike">
                <a:solidFill>
                  <a:srgbClr val="ff6600"/>
                </a:solidFill>
                <a:latin typeface="Book Antiqua"/>
              </a:rPr>
              <a:t>	</a:t>
            </a:r>
            <a:r>
              <a:rPr b="0" lang="en-US" sz="2700" spc="-1" strike="noStrike">
                <a:solidFill>
                  <a:srgbClr val="ff6600"/>
                </a:solidFill>
                <a:latin typeface="Book Antiqua"/>
              </a:rPr>
              <a:t>	</a:t>
            </a:r>
            <a:r>
              <a:rPr b="0" lang="en-US" sz="2700" spc="-1" strike="noStrike">
                <a:solidFill>
                  <a:srgbClr val="ff6600"/>
                </a:solidFill>
                <a:latin typeface="Book Antiqua"/>
              </a:rPr>
              <a:t>	</a:t>
            </a:r>
            <a:r>
              <a:rPr b="0" lang="en-US" sz="2700" spc="-1" strike="noStrike">
                <a:solidFill>
                  <a:srgbClr val="ff6600"/>
                </a:solidFill>
                <a:latin typeface="Book Antiqua"/>
              </a:rPr>
              <a:t>	</a:t>
            </a:r>
            <a:r>
              <a:rPr b="0" lang="en-US" sz="2700" spc="-1" strike="noStrike">
                <a:solidFill>
                  <a:srgbClr val="ff6600"/>
                </a:solidFill>
                <a:latin typeface="Book Antiqua"/>
              </a:rPr>
              <a:t>	</a:t>
            </a:r>
            <a:r>
              <a:rPr b="0" lang="en-US" sz="2700" spc="-1" strike="noStrike">
                <a:solidFill>
                  <a:srgbClr val="ff6600"/>
                </a:solidFill>
                <a:latin typeface="Book Antiqua"/>
              </a:rPr>
              <a:t>Svetlana Lazarov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6600"/>
                </a:solidFill>
                <a:latin typeface="Book Antiqua"/>
              </a:rPr>
              <a:t>	</a:t>
            </a:r>
            <a:r>
              <a:rPr b="0" lang="en-US" sz="2700" spc="-1" strike="noStrike">
                <a:solidFill>
                  <a:srgbClr val="ff6600"/>
                </a:solidFill>
                <a:latin typeface="Book Antiqua"/>
              </a:rPr>
              <a:t>	</a:t>
            </a:r>
            <a:r>
              <a:rPr b="0" lang="en-US" sz="2700" spc="-1" strike="noStrike">
                <a:solidFill>
                  <a:srgbClr val="ff6600"/>
                </a:solidFill>
                <a:latin typeface="Book Antiqua"/>
              </a:rPr>
              <a:t>	</a:t>
            </a:r>
            <a:r>
              <a:rPr b="0" lang="en-US" sz="2700" spc="-1" strike="noStrike">
                <a:solidFill>
                  <a:srgbClr val="ff6600"/>
                </a:solidFill>
                <a:latin typeface="Book Antiqua"/>
              </a:rPr>
              <a:t>	</a:t>
            </a:r>
            <a:r>
              <a:rPr b="0" lang="en-US" sz="2700" spc="-1" strike="noStrike">
                <a:solidFill>
                  <a:srgbClr val="ff6600"/>
                </a:solidFill>
                <a:latin typeface="Book Antiqua"/>
              </a:rPr>
              <a:t>	</a:t>
            </a:r>
            <a:r>
              <a:rPr b="0" lang="en-US" sz="2700" spc="-1" strike="noStrike">
                <a:solidFill>
                  <a:srgbClr val="ff6600"/>
                </a:solidFill>
                <a:latin typeface="Book Antiqua"/>
              </a:rPr>
              <a:t>	</a:t>
            </a:r>
            <a:r>
              <a:rPr b="0" lang="en-US" sz="2700" spc="-1" strike="noStrike">
                <a:solidFill>
                  <a:srgbClr val="ff6600"/>
                </a:solidFill>
                <a:latin typeface="Book Antiqua"/>
              </a:rPr>
              <a:t>Duarte Silv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65" name="Picture 1" descr=""/>
          <p:cNvPicPr/>
          <p:nvPr/>
        </p:nvPicPr>
        <p:blipFill>
          <a:blip r:embed="rId1"/>
          <a:stretch/>
        </p:blipFill>
        <p:spPr>
          <a:xfrm>
            <a:off x="1019160" y="187200"/>
            <a:ext cx="1459080" cy="2187720"/>
          </a:xfrm>
          <a:prstGeom prst="rect">
            <a:avLst/>
          </a:prstGeom>
          <a:ln w="0">
            <a:noFill/>
          </a:ln>
        </p:spPr>
      </p:pic>
      <p:sp>
        <p:nvSpPr>
          <p:cNvPr id="566" name="TextBox 4"/>
          <p:cNvSpPr/>
          <p:nvPr/>
        </p:nvSpPr>
        <p:spPr>
          <a:xfrm>
            <a:off x="3403440" y="487440"/>
            <a:ext cx="5589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California Language Teachers</a:t>
            </a:r>
            <a:r>
              <a:rPr b="0" lang="ja-JP" sz="4200" spc="-1" strike="noStrike">
                <a:solidFill>
                  <a:srgbClr val="ff6600"/>
                </a:solidFill>
                <a:latin typeface="Bodoni SvtyTwo SC ITC TT-Book"/>
              </a:rPr>
              <a:t>’</a:t>
            </a: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 Association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Footer Placeholder 1"/>
          <p:cNvSpPr/>
          <p:nvPr/>
        </p:nvSpPr>
        <p:spPr>
          <a:xfrm>
            <a:off x="2478240" y="6410160"/>
            <a:ext cx="39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Bodoni SvtyTwo SC ITC TT-Book"/>
              </a:rPr>
              <a:t>21</a:t>
            </a:r>
            <a:r>
              <a:rPr b="0" lang="en-US" sz="1600" spc="-1" strike="noStrike" baseline="30000">
                <a:solidFill>
                  <a:srgbClr val="ff6600"/>
                </a:solidFill>
                <a:latin typeface="Bodoni SvtyTwo SC ITC TT-Book"/>
              </a:rPr>
              <a:t>ST</a:t>
            </a:r>
            <a:r>
              <a:rPr b="0" lang="en-US" sz="1600" spc="-1" strike="noStrike">
                <a:solidFill>
                  <a:srgbClr val="ff6600"/>
                </a:solidFill>
                <a:latin typeface="Bodoni SvtyTwo SC ITC TT-Book"/>
              </a:rPr>
              <a:t> CENTURY GLOBAL READINES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 txBox="1"/>
          <p:nvPr/>
        </p:nvSpPr>
        <p:spPr>
          <a:xfrm>
            <a:off x="639360" y="140976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4f81bd"/>
              </a:buClr>
              <a:buSzPct val="87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4f81bd"/>
              </a:buClr>
              <a:buSzPct val="87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4f81bd"/>
              </a:buClr>
              <a:buSzPct val="87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4f81bd"/>
              </a:buClr>
              <a:buSzPct val="87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Title 1"/>
          <p:cNvSpPr/>
          <p:nvPr/>
        </p:nvSpPr>
        <p:spPr>
          <a:xfrm>
            <a:off x="228600" y="217440"/>
            <a:ext cx="88376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236ff"/>
                </a:solidFill>
                <a:latin typeface="Georgia"/>
              </a:rPr>
              <a:t>Developing College, Career and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236ff"/>
                </a:solidFill>
                <a:latin typeface="Georgia"/>
              </a:rPr>
              <a:t>World Ready Students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TextBox 4"/>
          <p:cNvSpPr/>
          <p:nvPr/>
        </p:nvSpPr>
        <p:spPr>
          <a:xfrm>
            <a:off x="1785960" y="6357960"/>
            <a:ext cx="588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Bodoni SvtyTwo SC ITC TT-Book"/>
              </a:rPr>
              <a:t>21</a:t>
            </a:r>
            <a:r>
              <a:rPr b="0" lang="en-US" sz="2000" spc="-1" strike="noStrike" baseline="30000">
                <a:solidFill>
                  <a:srgbClr val="ff6600"/>
                </a:solidFill>
                <a:latin typeface="Bodoni SvtyTwo SC ITC TT-Book"/>
              </a:rPr>
              <a:t>ST</a:t>
            </a:r>
            <a:r>
              <a:rPr b="0" lang="en-US" sz="2000" spc="-1" strike="noStrike">
                <a:solidFill>
                  <a:srgbClr val="ff6600"/>
                </a:solidFill>
                <a:latin typeface="Bodoni SvtyTwo SC ITC TT-Book"/>
              </a:rPr>
              <a:t> CENTURY GLOBAL READINES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TextBox 7"/>
          <p:cNvSpPr/>
          <p:nvPr/>
        </p:nvSpPr>
        <p:spPr>
          <a:xfrm>
            <a:off x="1119240" y="1562040"/>
            <a:ext cx="764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236ff"/>
                </a:solidFill>
                <a:latin typeface="Georgia"/>
              </a:rPr>
              <a:t>WHAT IS UCCI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0" name="TextBox 2"/>
          <p:cNvSpPr/>
          <p:nvPr/>
        </p:nvSpPr>
        <p:spPr>
          <a:xfrm>
            <a:off x="2413080" y="40813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1" name="UCCI Video4.mp4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itle 1"/>
          <p:cNvSpPr/>
          <p:nvPr/>
        </p:nvSpPr>
        <p:spPr>
          <a:xfrm>
            <a:off x="304920" y="3862440"/>
            <a:ext cx="8510400" cy="240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>
                <a:alpha val="75000"/>
              </a:srgbClr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marL="1371600" indent="-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  <a:ea typeface="MS PGothic"/>
              </a:rPr>
              <a:t>Teams 80+ instructors, administrators, curriculum specialists, UC staff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371600" indent="-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eorgia"/>
                <a:ea typeface="MS PGothic"/>
              </a:rPr>
              <a:t>One day of professional developm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371600" indent="-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  <a:ea typeface="MS PGothic"/>
              </a:rPr>
              <a:t>4 days of intensive course writing on sit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371600" indent="-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eorgia"/>
                <a:ea typeface="MS PGothic"/>
              </a:rPr>
              <a:t>Follow-up course writing online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3" name="TextBox 4"/>
          <p:cNvSpPr/>
          <p:nvPr/>
        </p:nvSpPr>
        <p:spPr>
          <a:xfrm>
            <a:off x="3403440" y="487440"/>
            <a:ext cx="5589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California Language Teachers</a:t>
            </a:r>
            <a:r>
              <a:rPr b="0" lang="ja-JP" sz="4200" spc="-1" strike="noStrike">
                <a:solidFill>
                  <a:srgbClr val="ff6600"/>
                </a:solidFill>
                <a:latin typeface="Bodoni SvtyTwo SC ITC TT-Book"/>
              </a:rPr>
              <a:t>’</a:t>
            </a: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 Association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4" name="Subtitle 2"/>
          <p:cNvSpPr/>
          <p:nvPr/>
        </p:nvSpPr>
        <p:spPr>
          <a:xfrm>
            <a:off x="674640" y="2730600"/>
            <a:ext cx="765324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236ff"/>
                </a:solidFill>
                <a:latin typeface="Georgia"/>
              </a:rPr>
              <a:t>UCCI  INTEGRATED COURSE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236ff"/>
                </a:solidFill>
                <a:latin typeface="Georgia"/>
              </a:rPr>
              <a:t>DEVELOPMENT PROCES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5" name="Picture 5" descr=""/>
          <p:cNvPicPr/>
          <p:nvPr/>
        </p:nvPicPr>
        <p:blipFill>
          <a:blip r:embed="rId1"/>
          <a:stretch/>
        </p:blipFill>
        <p:spPr>
          <a:xfrm>
            <a:off x="1019160" y="363600"/>
            <a:ext cx="1190520" cy="17841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1" descr=""/>
          <p:cNvPicPr/>
          <p:nvPr/>
        </p:nvPicPr>
        <p:blipFill>
          <a:blip r:embed="rId2"/>
          <a:stretch/>
        </p:blipFill>
        <p:spPr>
          <a:xfrm>
            <a:off x="1019160" y="187200"/>
            <a:ext cx="1459080" cy="2187720"/>
          </a:xfrm>
          <a:prstGeom prst="rect">
            <a:avLst/>
          </a:prstGeom>
          <a:ln w="0">
            <a:noFill/>
          </a:ln>
        </p:spPr>
      </p:pic>
      <p:sp>
        <p:nvSpPr>
          <p:cNvPr id="627" name="TextBox 4"/>
          <p:cNvSpPr/>
          <p:nvPr/>
        </p:nvSpPr>
        <p:spPr>
          <a:xfrm>
            <a:off x="1785960" y="6316560"/>
            <a:ext cx="588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Bodoni SvtyTwo SC ITC TT-Book"/>
              </a:rPr>
              <a:t>21</a:t>
            </a:r>
            <a:r>
              <a:rPr b="0" lang="en-US" sz="2000" spc="-1" strike="noStrike" baseline="30000">
                <a:solidFill>
                  <a:srgbClr val="ff6600"/>
                </a:solidFill>
                <a:latin typeface="Bodoni SvtyTwo SC ITC TT-Book"/>
              </a:rPr>
              <a:t>ST</a:t>
            </a:r>
            <a:r>
              <a:rPr b="0" lang="en-US" sz="2000" spc="-1" strike="noStrike">
                <a:solidFill>
                  <a:srgbClr val="ff6600"/>
                </a:solidFill>
                <a:latin typeface="Bodoni SvtyTwo SC ITC TT-Book"/>
              </a:rPr>
              <a:t> CENTURY GLOBAL READINES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itle 1"/>
          <p:cNvSpPr/>
          <p:nvPr/>
        </p:nvSpPr>
        <p:spPr>
          <a:xfrm>
            <a:off x="304920" y="3862440"/>
            <a:ext cx="8510400" cy="191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>
                <a:alpha val="75000"/>
              </a:srgbClr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Le Francais et Marketing (Level 3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Spanish for the Entrepreneurial Mind (Level 3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TextBox 4"/>
          <p:cNvSpPr/>
          <p:nvPr/>
        </p:nvSpPr>
        <p:spPr>
          <a:xfrm>
            <a:off x="3403440" y="487440"/>
            <a:ext cx="5589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California Language Teachers</a:t>
            </a:r>
            <a:r>
              <a:rPr b="0" lang="ja-JP" sz="4200" spc="-1" strike="noStrike">
                <a:solidFill>
                  <a:srgbClr val="ff6600"/>
                </a:solidFill>
                <a:latin typeface="Bodoni SvtyTwo SC ITC TT-Book"/>
              </a:rPr>
              <a:t>’</a:t>
            </a: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 Association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Subtitle 2"/>
          <p:cNvSpPr/>
          <p:nvPr/>
        </p:nvSpPr>
        <p:spPr>
          <a:xfrm>
            <a:off x="674640" y="2730600"/>
            <a:ext cx="765324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236ff"/>
                </a:solidFill>
                <a:latin typeface="Georgia"/>
              </a:rPr>
              <a:t>UCCI COURSES APPROVED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236ff"/>
                </a:solidFill>
                <a:latin typeface="Georgia"/>
              </a:rPr>
              <a:t>From the  FALL 2012 INSTITUTE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1" name="Picture 5" descr=""/>
          <p:cNvPicPr/>
          <p:nvPr/>
        </p:nvPicPr>
        <p:blipFill>
          <a:blip r:embed="rId1"/>
          <a:stretch/>
        </p:blipFill>
        <p:spPr>
          <a:xfrm>
            <a:off x="1019160" y="363600"/>
            <a:ext cx="1190520" cy="178416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1" descr=""/>
          <p:cNvPicPr/>
          <p:nvPr/>
        </p:nvPicPr>
        <p:blipFill>
          <a:blip r:embed="rId2"/>
          <a:stretch/>
        </p:blipFill>
        <p:spPr>
          <a:xfrm>
            <a:off x="1019160" y="187200"/>
            <a:ext cx="1459080" cy="2187720"/>
          </a:xfrm>
          <a:prstGeom prst="rect">
            <a:avLst/>
          </a:prstGeom>
          <a:ln w="0">
            <a:noFill/>
          </a:ln>
        </p:spPr>
      </p:pic>
      <p:sp>
        <p:nvSpPr>
          <p:cNvPr id="633" name="TextBox 4"/>
          <p:cNvSpPr/>
          <p:nvPr/>
        </p:nvSpPr>
        <p:spPr>
          <a:xfrm>
            <a:off x="1785960" y="6316560"/>
            <a:ext cx="588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Bodoni SvtyTwo SC ITC TT-Book"/>
              </a:rPr>
              <a:t>21</a:t>
            </a:r>
            <a:r>
              <a:rPr b="0" lang="en-US" sz="2000" spc="-1" strike="noStrike" baseline="30000">
                <a:solidFill>
                  <a:srgbClr val="ff6600"/>
                </a:solidFill>
                <a:latin typeface="Bodoni SvtyTwo SC ITC TT-Book"/>
              </a:rPr>
              <a:t>ST</a:t>
            </a:r>
            <a:r>
              <a:rPr b="0" lang="en-US" sz="2000" spc="-1" strike="noStrike">
                <a:solidFill>
                  <a:srgbClr val="ff6600"/>
                </a:solidFill>
                <a:latin typeface="Bodoni SvtyTwo SC ITC TT-Book"/>
              </a:rPr>
              <a:t> CENTURY GLOBAL READINES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Title 1"/>
          <p:cNvSpPr/>
          <p:nvPr/>
        </p:nvSpPr>
        <p:spPr>
          <a:xfrm>
            <a:off x="304920" y="3616200"/>
            <a:ext cx="8510400" cy="1911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>
                <a:alpha val="75000"/>
              </a:srgbClr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71680" indent="-5716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Georgia"/>
              </a:rPr>
              <a:t>World Languages (LOTE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571680" indent="-5716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eorgia"/>
              </a:rPr>
              <a:t>Health Science and Medical Technology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TextBox 4"/>
          <p:cNvSpPr/>
          <p:nvPr/>
        </p:nvSpPr>
        <p:spPr>
          <a:xfrm>
            <a:off x="3403440" y="487440"/>
            <a:ext cx="5589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California Language Teachers</a:t>
            </a:r>
            <a:r>
              <a:rPr b="0" lang="ja-JP" sz="4200" spc="-1" strike="noStrike">
                <a:solidFill>
                  <a:srgbClr val="ff6600"/>
                </a:solidFill>
                <a:latin typeface="Bodoni SvtyTwo SC ITC TT-Book"/>
              </a:rPr>
              <a:t>’</a:t>
            </a: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 Association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Subtitle 2"/>
          <p:cNvSpPr/>
          <p:nvPr/>
        </p:nvSpPr>
        <p:spPr>
          <a:xfrm>
            <a:off x="674640" y="2730600"/>
            <a:ext cx="765324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236ff"/>
                </a:solidFill>
                <a:latin typeface="Georgia"/>
                <a:ea typeface="ＭＳ Ｐゴシック"/>
              </a:rPr>
              <a:t>UCCI COURSES SPRING 2013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7" name="Picture 5" descr=""/>
          <p:cNvPicPr/>
          <p:nvPr/>
        </p:nvPicPr>
        <p:blipFill>
          <a:blip r:embed="rId1"/>
          <a:stretch/>
        </p:blipFill>
        <p:spPr>
          <a:xfrm>
            <a:off x="1019160" y="363600"/>
            <a:ext cx="1190520" cy="178416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1" descr=""/>
          <p:cNvPicPr/>
          <p:nvPr/>
        </p:nvPicPr>
        <p:blipFill>
          <a:blip r:embed="rId2"/>
          <a:stretch/>
        </p:blipFill>
        <p:spPr>
          <a:xfrm>
            <a:off x="1019160" y="187200"/>
            <a:ext cx="1459080" cy="2187720"/>
          </a:xfrm>
          <a:prstGeom prst="rect">
            <a:avLst/>
          </a:prstGeom>
          <a:ln w="0">
            <a:noFill/>
          </a:ln>
        </p:spPr>
      </p:pic>
      <p:sp>
        <p:nvSpPr>
          <p:cNvPr id="639" name="TextBox 4"/>
          <p:cNvSpPr/>
          <p:nvPr/>
        </p:nvSpPr>
        <p:spPr>
          <a:xfrm>
            <a:off x="1785960" y="6316560"/>
            <a:ext cx="588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Bodoni SvtyTwo SC ITC TT-Book"/>
              </a:rPr>
              <a:t>21</a:t>
            </a:r>
            <a:r>
              <a:rPr b="0" lang="en-US" sz="2000" spc="-1" strike="noStrike" baseline="30000">
                <a:solidFill>
                  <a:srgbClr val="ff6600"/>
                </a:solidFill>
                <a:latin typeface="Bodoni SvtyTwo SC ITC TT-Book"/>
              </a:rPr>
              <a:t>ST</a:t>
            </a:r>
            <a:r>
              <a:rPr b="0" lang="en-US" sz="2000" spc="-1" strike="noStrike">
                <a:solidFill>
                  <a:srgbClr val="ff6600"/>
                </a:solidFill>
                <a:latin typeface="Bodoni SvtyTwo SC ITC TT-Book"/>
              </a:rPr>
              <a:t> CENTURY GLOBAL READINES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itle 1"/>
          <p:cNvSpPr/>
          <p:nvPr/>
        </p:nvSpPr>
        <p:spPr>
          <a:xfrm>
            <a:off x="304920" y="3616200"/>
            <a:ext cx="8510400" cy="270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>
                <a:alpha val="75000"/>
              </a:srgbClr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Participant: Draft a  course with team (</a:t>
            </a:r>
            <a:r>
              <a:rPr b="0" i="1" lang="en-US" sz="2800" spc="-1" strike="noStrike">
                <a:solidFill>
                  <a:srgbClr val="ff0000"/>
                </a:solidFill>
                <a:latin typeface="Georgia"/>
              </a:rPr>
              <a:t>experience A-G, WL and CTE Industry Sectors/Standards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Content Advisor: Knowledge of </a:t>
            </a:r>
            <a:r>
              <a:rPr b="0" i="1" lang="en-US" sz="2800" spc="-1" strike="noStrike">
                <a:solidFill>
                  <a:srgbClr val="0000ff"/>
                </a:solidFill>
                <a:latin typeface="Georgia"/>
              </a:rPr>
              <a:t>standards-based curriculum development and A-G Course outlin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Facilitator: Experience with leading group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TextBox 4"/>
          <p:cNvSpPr/>
          <p:nvPr/>
        </p:nvSpPr>
        <p:spPr>
          <a:xfrm>
            <a:off x="3403440" y="487440"/>
            <a:ext cx="5589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California Language Teachers</a:t>
            </a:r>
            <a:r>
              <a:rPr b="0" lang="ja-JP" sz="4200" spc="-1" strike="noStrike">
                <a:solidFill>
                  <a:srgbClr val="ff6600"/>
                </a:solidFill>
                <a:latin typeface="Bodoni SvtyTwo SC ITC TT-Book"/>
              </a:rPr>
              <a:t>’</a:t>
            </a: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 Association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Subtitle 2"/>
          <p:cNvSpPr/>
          <p:nvPr/>
        </p:nvSpPr>
        <p:spPr>
          <a:xfrm>
            <a:off x="674640" y="2730600"/>
            <a:ext cx="765324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236ff"/>
                </a:solidFill>
                <a:latin typeface="Georgia"/>
                <a:ea typeface="ＭＳ Ｐゴシック"/>
              </a:rPr>
              <a:t>HOW YOU CAN PARTICIPATE IN UCCI COURSE DEVELOPMENT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3" name="Picture 5" descr=""/>
          <p:cNvPicPr/>
          <p:nvPr/>
        </p:nvPicPr>
        <p:blipFill>
          <a:blip r:embed="rId1"/>
          <a:stretch/>
        </p:blipFill>
        <p:spPr>
          <a:xfrm>
            <a:off x="1019160" y="363600"/>
            <a:ext cx="1190520" cy="178416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" descr=""/>
          <p:cNvPicPr/>
          <p:nvPr/>
        </p:nvPicPr>
        <p:blipFill>
          <a:blip r:embed="rId2"/>
          <a:stretch/>
        </p:blipFill>
        <p:spPr>
          <a:xfrm>
            <a:off x="1019160" y="187200"/>
            <a:ext cx="1459080" cy="2187720"/>
          </a:xfrm>
          <a:prstGeom prst="rect">
            <a:avLst/>
          </a:prstGeom>
          <a:ln w="0">
            <a:noFill/>
          </a:ln>
        </p:spPr>
      </p:pic>
      <p:sp>
        <p:nvSpPr>
          <p:cNvPr id="645" name="TextBox 4"/>
          <p:cNvSpPr/>
          <p:nvPr/>
        </p:nvSpPr>
        <p:spPr>
          <a:xfrm>
            <a:off x="1785960" y="6316560"/>
            <a:ext cx="588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Bodoni SvtyTwo SC ITC TT-Book"/>
              </a:rPr>
              <a:t>21</a:t>
            </a:r>
            <a:r>
              <a:rPr b="0" lang="en-US" sz="2000" spc="-1" strike="noStrike" baseline="30000">
                <a:solidFill>
                  <a:srgbClr val="ff6600"/>
                </a:solidFill>
                <a:latin typeface="Bodoni SvtyTwo SC ITC TT-Book"/>
              </a:rPr>
              <a:t>ST</a:t>
            </a:r>
            <a:r>
              <a:rPr b="0" lang="en-US" sz="2000" spc="-1" strike="noStrike">
                <a:solidFill>
                  <a:srgbClr val="ff6600"/>
                </a:solidFill>
                <a:latin typeface="Bodoni SvtyTwo SC ITC TT-Book"/>
              </a:rPr>
              <a:t> CENTURY GLOBAL READINES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itle 1"/>
          <p:cNvSpPr/>
          <p:nvPr/>
        </p:nvSpPr>
        <p:spPr>
          <a:xfrm>
            <a:off x="695160" y="3203640"/>
            <a:ext cx="7653600" cy="1469880"/>
          </a:xfrm>
          <a:prstGeom prst="rect">
            <a:avLst/>
          </a:prstGeom>
          <a:solidFill>
            <a:srgbClr val="ffffff"/>
          </a:solidFill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2236ff"/>
                </a:solidFill>
                <a:latin typeface="Georgia"/>
              </a:rPr>
              <a:t>HOW CAN I TEACH THESE APPROVED COURSES IN            MY SCHOOL? </a:t>
            </a:r>
            <a:endParaRPr b="0" lang="en-US" sz="3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7" name="Subtitle 2"/>
          <p:cNvSpPr/>
          <p:nvPr/>
        </p:nvSpPr>
        <p:spPr>
          <a:xfrm>
            <a:off x="750960" y="5483160"/>
            <a:ext cx="765324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TextBox 4"/>
          <p:cNvSpPr/>
          <p:nvPr/>
        </p:nvSpPr>
        <p:spPr>
          <a:xfrm>
            <a:off x="3403440" y="487440"/>
            <a:ext cx="5589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California Language Teachers</a:t>
            </a:r>
            <a:r>
              <a:rPr b="0" lang="ja-JP" sz="4200" spc="-1" strike="noStrike">
                <a:solidFill>
                  <a:srgbClr val="ff6600"/>
                </a:solidFill>
                <a:latin typeface="Bodoni SvtyTwo SC ITC TT-Book"/>
              </a:rPr>
              <a:t>’</a:t>
            </a: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 Association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9" name="Picture 7" descr=""/>
          <p:cNvPicPr/>
          <p:nvPr/>
        </p:nvPicPr>
        <p:blipFill>
          <a:blip r:embed="rId1"/>
          <a:stretch/>
        </p:blipFill>
        <p:spPr>
          <a:xfrm>
            <a:off x="1019160" y="363600"/>
            <a:ext cx="1190520" cy="178416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" descr=""/>
          <p:cNvPicPr/>
          <p:nvPr/>
        </p:nvPicPr>
        <p:blipFill>
          <a:blip r:embed="rId2"/>
          <a:stretch/>
        </p:blipFill>
        <p:spPr>
          <a:xfrm>
            <a:off x="1019160" y="187200"/>
            <a:ext cx="1459080" cy="2187720"/>
          </a:xfrm>
          <a:prstGeom prst="rect">
            <a:avLst/>
          </a:prstGeom>
          <a:ln w="0">
            <a:noFill/>
          </a:ln>
        </p:spPr>
      </p:pic>
      <p:sp>
        <p:nvSpPr>
          <p:cNvPr id="651" name="TextBox 4"/>
          <p:cNvSpPr/>
          <p:nvPr/>
        </p:nvSpPr>
        <p:spPr>
          <a:xfrm>
            <a:off x="1785960" y="6316560"/>
            <a:ext cx="588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Bodoni SvtyTwo SC ITC TT-Book"/>
              </a:rPr>
              <a:t>21</a:t>
            </a:r>
            <a:r>
              <a:rPr b="0" lang="en-US" sz="2000" spc="-1" strike="noStrike" baseline="30000">
                <a:solidFill>
                  <a:srgbClr val="ff6600"/>
                </a:solidFill>
                <a:latin typeface="Bodoni SvtyTwo SC ITC TT-Book"/>
              </a:rPr>
              <a:t>ST</a:t>
            </a:r>
            <a:r>
              <a:rPr b="0" lang="en-US" sz="2000" spc="-1" strike="noStrike">
                <a:solidFill>
                  <a:srgbClr val="ff6600"/>
                </a:solidFill>
                <a:latin typeface="Bodoni SvtyTwo SC ITC TT-Book"/>
              </a:rPr>
              <a:t> CENTURY GLOBAL READINES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itle 1"/>
          <p:cNvSpPr/>
          <p:nvPr/>
        </p:nvSpPr>
        <p:spPr>
          <a:xfrm>
            <a:off x="695160" y="3579840"/>
            <a:ext cx="7653600" cy="2162160"/>
          </a:xfrm>
          <a:prstGeom prst="rect">
            <a:avLst/>
          </a:prstGeom>
          <a:solidFill>
            <a:srgbClr val="ffffff"/>
          </a:solidFill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Program Information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Sarah Fidelibu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UCCI Program Manag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i="1" lang="en-US" sz="2800" spc="-1" strike="noStrike">
                <a:solidFill>
                  <a:srgbClr val="0000ff"/>
                </a:solidFill>
                <a:latin typeface="Georgia"/>
              </a:rPr>
              <a:t>(510) 287-3349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web site:  </a:t>
            </a:r>
            <a:r>
              <a:rPr b="0" i="1" lang="en-US" sz="2800" spc="-1" strike="noStrike">
                <a:solidFill>
                  <a:srgbClr val="0000ff"/>
                </a:solidFill>
                <a:latin typeface="Georgia"/>
              </a:rPr>
              <a:t>www.ucopedu/ucci/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Subtitle 2"/>
          <p:cNvSpPr/>
          <p:nvPr/>
        </p:nvSpPr>
        <p:spPr>
          <a:xfrm>
            <a:off x="750960" y="5483160"/>
            <a:ext cx="765324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TextBox 4"/>
          <p:cNvSpPr/>
          <p:nvPr/>
        </p:nvSpPr>
        <p:spPr>
          <a:xfrm>
            <a:off x="3403440" y="487440"/>
            <a:ext cx="5589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California Language Teachers</a:t>
            </a:r>
            <a:r>
              <a:rPr b="0" lang="ja-JP" sz="4200" spc="-1" strike="noStrike">
                <a:solidFill>
                  <a:srgbClr val="ff6600"/>
                </a:solidFill>
                <a:latin typeface="Bodoni SvtyTwo SC ITC TT-Book"/>
              </a:rPr>
              <a:t>’</a:t>
            </a: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 Association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5" name="Picture 7" descr=""/>
          <p:cNvPicPr/>
          <p:nvPr/>
        </p:nvPicPr>
        <p:blipFill>
          <a:blip r:embed="rId1"/>
          <a:stretch/>
        </p:blipFill>
        <p:spPr>
          <a:xfrm>
            <a:off x="1019160" y="363600"/>
            <a:ext cx="1190520" cy="178416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" descr=""/>
          <p:cNvPicPr/>
          <p:nvPr/>
        </p:nvPicPr>
        <p:blipFill>
          <a:blip r:embed="rId2"/>
          <a:stretch/>
        </p:blipFill>
        <p:spPr>
          <a:xfrm>
            <a:off x="1019160" y="187200"/>
            <a:ext cx="1459080" cy="2187720"/>
          </a:xfrm>
          <a:prstGeom prst="rect">
            <a:avLst/>
          </a:prstGeom>
          <a:ln w="0">
            <a:noFill/>
          </a:ln>
        </p:spPr>
      </p:pic>
      <p:sp>
        <p:nvSpPr>
          <p:cNvPr id="657" name="TextBox 4"/>
          <p:cNvSpPr/>
          <p:nvPr/>
        </p:nvSpPr>
        <p:spPr>
          <a:xfrm>
            <a:off x="1785960" y="6316560"/>
            <a:ext cx="588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Bodoni SvtyTwo SC ITC TT-Book"/>
              </a:rPr>
              <a:t>21</a:t>
            </a:r>
            <a:r>
              <a:rPr b="0" lang="en-US" sz="2000" spc="-1" strike="noStrike" baseline="30000">
                <a:solidFill>
                  <a:srgbClr val="ff6600"/>
                </a:solidFill>
                <a:latin typeface="Bodoni SvtyTwo SC ITC TT-Book"/>
              </a:rPr>
              <a:t>ST</a:t>
            </a:r>
            <a:r>
              <a:rPr b="0" lang="en-US" sz="2000" spc="-1" strike="noStrike">
                <a:solidFill>
                  <a:srgbClr val="ff6600"/>
                </a:solidFill>
                <a:latin typeface="Bodoni SvtyTwo SC ITC TT-Book"/>
              </a:rPr>
              <a:t> CENTURY GLOBAL READINES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8" name="TextBox 7"/>
          <p:cNvSpPr/>
          <p:nvPr/>
        </p:nvSpPr>
        <p:spPr>
          <a:xfrm>
            <a:off x="750960" y="2917800"/>
            <a:ext cx="76532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944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2236ff"/>
                </a:solidFill>
                <a:latin typeface="Georgia"/>
              </a:rPr>
              <a:t>UCCI CONTACTS</a:t>
            </a:r>
            <a:endParaRPr b="0" lang="en-US" sz="3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itle 1"/>
          <p:cNvSpPr/>
          <p:nvPr/>
        </p:nvSpPr>
        <p:spPr>
          <a:xfrm>
            <a:off x="695160" y="3579840"/>
            <a:ext cx="7653600" cy="2162160"/>
          </a:xfrm>
          <a:prstGeom prst="rect">
            <a:avLst/>
          </a:prstGeom>
          <a:solidFill>
            <a:srgbClr val="ffffff"/>
          </a:solidFill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Teacher/Participant Contact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Katie Lesli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UCCI Projects Coordinato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i="1" lang="en-US" sz="2700" spc="-1" strike="noStrike">
                <a:solidFill>
                  <a:srgbClr val="0000ff"/>
                </a:solidFill>
                <a:latin typeface="Georgia"/>
              </a:rPr>
              <a:t>(510) 587-6195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ff"/>
                </a:solidFill>
                <a:latin typeface="Georgia"/>
              </a:rPr>
              <a:t>email:</a:t>
            </a:r>
            <a:r>
              <a:rPr b="0" i="1" lang="en-US" sz="2700" spc="-1" strike="noStrike">
                <a:solidFill>
                  <a:srgbClr val="0000ff"/>
                </a:solidFill>
                <a:latin typeface="Georgia"/>
              </a:rPr>
              <a:t>Katherine.Leslie@ucop.edu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Subtitle 2"/>
          <p:cNvSpPr/>
          <p:nvPr/>
        </p:nvSpPr>
        <p:spPr>
          <a:xfrm>
            <a:off x="750960" y="5483160"/>
            <a:ext cx="765324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3403440" y="487440"/>
            <a:ext cx="5589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California Language Teachers</a:t>
            </a:r>
            <a:r>
              <a:rPr b="0" lang="ja-JP" sz="4200" spc="-1" strike="noStrike">
                <a:solidFill>
                  <a:srgbClr val="ff6600"/>
                </a:solidFill>
                <a:latin typeface="Bodoni SvtyTwo SC ITC TT-Book"/>
              </a:rPr>
              <a:t>’</a:t>
            </a: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 Association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2" name="Picture 7" descr=""/>
          <p:cNvPicPr/>
          <p:nvPr/>
        </p:nvPicPr>
        <p:blipFill>
          <a:blip r:embed="rId1"/>
          <a:stretch/>
        </p:blipFill>
        <p:spPr>
          <a:xfrm>
            <a:off x="1019160" y="363600"/>
            <a:ext cx="1190520" cy="178416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1" descr=""/>
          <p:cNvPicPr/>
          <p:nvPr/>
        </p:nvPicPr>
        <p:blipFill>
          <a:blip r:embed="rId2"/>
          <a:stretch/>
        </p:blipFill>
        <p:spPr>
          <a:xfrm>
            <a:off x="1019160" y="187200"/>
            <a:ext cx="1459080" cy="2187720"/>
          </a:xfrm>
          <a:prstGeom prst="rect">
            <a:avLst/>
          </a:prstGeom>
          <a:ln w="0">
            <a:noFill/>
          </a:ln>
        </p:spPr>
      </p:pic>
      <p:sp>
        <p:nvSpPr>
          <p:cNvPr id="664" name="TextBox 4"/>
          <p:cNvSpPr/>
          <p:nvPr/>
        </p:nvSpPr>
        <p:spPr>
          <a:xfrm>
            <a:off x="1785960" y="6316560"/>
            <a:ext cx="588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Bodoni SvtyTwo SC ITC TT-Book"/>
              </a:rPr>
              <a:t>21</a:t>
            </a:r>
            <a:r>
              <a:rPr b="0" lang="en-US" sz="2000" spc="-1" strike="noStrike" baseline="30000">
                <a:solidFill>
                  <a:srgbClr val="ff6600"/>
                </a:solidFill>
                <a:latin typeface="Bodoni SvtyTwo SC ITC TT-Book"/>
              </a:rPr>
              <a:t>ST</a:t>
            </a:r>
            <a:r>
              <a:rPr b="0" lang="en-US" sz="2000" spc="-1" strike="noStrike">
                <a:solidFill>
                  <a:srgbClr val="ff6600"/>
                </a:solidFill>
                <a:latin typeface="Bodoni SvtyTwo SC ITC TT-Book"/>
              </a:rPr>
              <a:t> CENTURY GLOBAL READINES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TextBox 7"/>
          <p:cNvSpPr/>
          <p:nvPr/>
        </p:nvSpPr>
        <p:spPr>
          <a:xfrm>
            <a:off x="750960" y="2917800"/>
            <a:ext cx="76532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944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2236ff"/>
                </a:solidFill>
                <a:latin typeface="Georgia"/>
              </a:rPr>
              <a:t>UCCI CONTACTS cont.</a:t>
            </a:r>
            <a:endParaRPr b="0" lang="en-US" sz="3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Subtitle 2"/>
          <p:cNvSpPr/>
          <p:nvPr/>
        </p:nvSpPr>
        <p:spPr>
          <a:xfrm>
            <a:off x="750960" y="5824440"/>
            <a:ext cx="765324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TextBox 4"/>
          <p:cNvSpPr/>
          <p:nvPr/>
        </p:nvSpPr>
        <p:spPr>
          <a:xfrm>
            <a:off x="3403440" y="487440"/>
            <a:ext cx="5589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California Language Teachers</a:t>
            </a:r>
            <a:r>
              <a:rPr b="0" lang="ja-JP" sz="4200" spc="-1" strike="noStrike">
                <a:solidFill>
                  <a:srgbClr val="ff6600"/>
                </a:solidFill>
                <a:latin typeface="Bodoni SvtyTwo SC ITC TT-Book"/>
              </a:rPr>
              <a:t>’</a:t>
            </a: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 Association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8" name="Picture 7" descr=""/>
          <p:cNvPicPr/>
          <p:nvPr/>
        </p:nvPicPr>
        <p:blipFill>
          <a:blip r:embed="rId1"/>
          <a:stretch/>
        </p:blipFill>
        <p:spPr>
          <a:xfrm>
            <a:off x="1019160" y="363600"/>
            <a:ext cx="1190520" cy="178416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1" descr=""/>
          <p:cNvPicPr/>
          <p:nvPr/>
        </p:nvPicPr>
        <p:blipFill>
          <a:blip r:embed="rId2"/>
          <a:stretch/>
        </p:blipFill>
        <p:spPr>
          <a:xfrm>
            <a:off x="1019160" y="187200"/>
            <a:ext cx="1459080" cy="2187720"/>
          </a:xfrm>
          <a:prstGeom prst="rect">
            <a:avLst/>
          </a:prstGeom>
          <a:ln w="0">
            <a:noFill/>
          </a:ln>
        </p:spPr>
      </p:pic>
      <p:sp>
        <p:nvSpPr>
          <p:cNvPr id="670" name="TextBox 4"/>
          <p:cNvSpPr/>
          <p:nvPr/>
        </p:nvSpPr>
        <p:spPr>
          <a:xfrm>
            <a:off x="1785960" y="6316560"/>
            <a:ext cx="588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Bodoni SvtyTwo SC ITC TT-Book"/>
              </a:rPr>
              <a:t>21</a:t>
            </a:r>
            <a:r>
              <a:rPr b="0" lang="en-US" sz="2000" spc="-1" strike="noStrike" baseline="30000">
                <a:solidFill>
                  <a:srgbClr val="ff6600"/>
                </a:solidFill>
                <a:latin typeface="Bodoni SvtyTwo SC ITC TT-Book"/>
              </a:rPr>
              <a:t>st</a:t>
            </a:r>
            <a:r>
              <a:rPr b="0" lang="en-US" sz="2000" spc="-1" strike="noStrike">
                <a:solidFill>
                  <a:srgbClr val="ff6600"/>
                </a:solidFill>
                <a:latin typeface="Bodoni SvtyTwo SC ITC TT-Book"/>
              </a:rPr>
              <a:t> CENTURY GLOBAL READINES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Footer Placeholder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2" name="TextBox 8"/>
          <p:cNvSpPr/>
          <p:nvPr/>
        </p:nvSpPr>
        <p:spPr>
          <a:xfrm>
            <a:off x="304920" y="2409840"/>
            <a:ext cx="86882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0" lang="en-US" sz="4000" spc="-1" strike="noStrike">
                <a:solidFill>
                  <a:srgbClr val="ff0000"/>
                </a:solidFill>
                <a:latin typeface="Georgia"/>
              </a:rPr>
              <a:t>CONCLUSION: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Georgia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Georgia"/>
              </a:rPr>
              <a:t>DISCUSSION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Georgia"/>
              </a:rPr>
              <a:t>REVIEW PRESENTATION GOAL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itle 1"/>
          <p:cNvSpPr/>
          <p:nvPr/>
        </p:nvSpPr>
        <p:spPr>
          <a:xfrm>
            <a:off x="695160" y="2793960"/>
            <a:ext cx="7653600" cy="3005280"/>
          </a:xfrm>
          <a:prstGeom prst="rect">
            <a:avLst/>
          </a:prstGeom>
          <a:solidFill>
            <a:srgbClr val="ffffff"/>
          </a:solidFill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ff0000"/>
                </a:solidFill>
                <a:latin typeface="Georgia"/>
              </a:rPr>
              <a:t>Thank you for attending!</a:t>
            </a:r>
            <a:endParaRPr b="0" lang="en-US" sz="3700" spc="-1" strike="noStrike">
              <a:solidFill>
                <a:srgbClr val="000000"/>
              </a:solidFill>
              <a:latin typeface="Georgia"/>
            </a:endParaRPr>
          </a:p>
          <a:p>
            <a:pPr marL="10944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00ff"/>
                </a:solidFill>
                <a:latin typeface="Georgia"/>
              </a:rPr>
              <a:t>For further exploration of these concepts, please plan to attend the </a:t>
            </a:r>
            <a:r>
              <a:rPr b="0" lang="en-US" sz="3700" spc="-1" strike="noStrike">
                <a:solidFill>
                  <a:srgbClr val="ff0000"/>
                </a:solidFill>
                <a:latin typeface="Georgia"/>
              </a:rPr>
              <a:t>Summer Seminar, July 18th-24</a:t>
            </a:r>
            <a:r>
              <a:rPr b="0" lang="en-US" sz="3700" spc="-1" strike="noStrike" baseline="30000">
                <a:solidFill>
                  <a:srgbClr val="ff0000"/>
                </a:solidFill>
                <a:latin typeface="Georgia"/>
              </a:rPr>
              <a:t>th</a:t>
            </a:r>
            <a:endParaRPr b="0" lang="en-US" sz="3700" spc="-1" strike="noStrike">
              <a:solidFill>
                <a:srgbClr val="000000"/>
              </a:solidFill>
              <a:latin typeface="Georgia"/>
            </a:endParaRPr>
          </a:p>
          <a:p>
            <a:pPr marL="10944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00ff"/>
                </a:solidFill>
                <a:latin typeface="Georgia"/>
              </a:rPr>
              <a:t>UC, Santa Barbara </a:t>
            </a:r>
            <a:endParaRPr b="0" lang="en-US" sz="3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4" name="Subtitle 2"/>
          <p:cNvSpPr/>
          <p:nvPr/>
        </p:nvSpPr>
        <p:spPr>
          <a:xfrm>
            <a:off x="750960" y="5483160"/>
            <a:ext cx="765324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5" name="TextBox 4"/>
          <p:cNvSpPr/>
          <p:nvPr/>
        </p:nvSpPr>
        <p:spPr>
          <a:xfrm>
            <a:off x="3403440" y="487440"/>
            <a:ext cx="5589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California Language Teachers</a:t>
            </a:r>
            <a:r>
              <a:rPr b="0" lang="ja-JP" sz="4200" spc="-1" strike="noStrike">
                <a:solidFill>
                  <a:srgbClr val="ff6600"/>
                </a:solidFill>
                <a:latin typeface="Bodoni SvtyTwo SC ITC TT-Book"/>
              </a:rPr>
              <a:t>’</a:t>
            </a: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 Association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6" name="Picture 7" descr=""/>
          <p:cNvPicPr/>
          <p:nvPr/>
        </p:nvPicPr>
        <p:blipFill>
          <a:blip r:embed="rId1"/>
          <a:stretch/>
        </p:blipFill>
        <p:spPr>
          <a:xfrm>
            <a:off x="1019160" y="363600"/>
            <a:ext cx="1190520" cy="178416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1" descr=""/>
          <p:cNvPicPr/>
          <p:nvPr/>
        </p:nvPicPr>
        <p:blipFill>
          <a:blip r:embed="rId2"/>
          <a:stretch/>
        </p:blipFill>
        <p:spPr>
          <a:xfrm>
            <a:off x="1019160" y="187200"/>
            <a:ext cx="1459080" cy="2187720"/>
          </a:xfrm>
          <a:prstGeom prst="rect">
            <a:avLst/>
          </a:prstGeom>
          <a:ln w="0">
            <a:noFill/>
          </a:ln>
        </p:spPr>
      </p:pic>
      <p:sp>
        <p:nvSpPr>
          <p:cNvPr id="678" name="TextBox 4"/>
          <p:cNvSpPr/>
          <p:nvPr/>
        </p:nvSpPr>
        <p:spPr>
          <a:xfrm>
            <a:off x="1785960" y="6357960"/>
            <a:ext cx="588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Bodoni SvtyTwo SC ITC TT-Book"/>
              </a:rPr>
              <a:t>21</a:t>
            </a:r>
            <a:r>
              <a:rPr b="0" lang="en-US" sz="2000" spc="-1" strike="noStrike" baseline="30000">
                <a:solidFill>
                  <a:srgbClr val="ff6600"/>
                </a:solidFill>
                <a:latin typeface="Bodoni SvtyTwo SC ITC TT-Book"/>
              </a:rPr>
              <a:t>ST</a:t>
            </a:r>
            <a:r>
              <a:rPr b="0" lang="en-US" sz="2000" spc="-1" strike="noStrike">
                <a:solidFill>
                  <a:srgbClr val="ff6600"/>
                </a:solidFill>
                <a:latin typeface="Bodoni SvtyTwo SC ITC TT-Book"/>
              </a:rPr>
              <a:t> CENTURY GLOBAL READINES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itle 1"/>
          <p:cNvSpPr/>
          <p:nvPr/>
        </p:nvSpPr>
        <p:spPr>
          <a:xfrm>
            <a:off x="419040" y="2540160"/>
            <a:ext cx="8574120" cy="3870000"/>
          </a:xfrm>
          <a:prstGeom prst="rect">
            <a:avLst/>
          </a:prstGeom>
          <a:solidFill>
            <a:srgbClr val="ffffff"/>
          </a:solidFill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ＭＳ Ｐゴシック"/>
              </a:rPr>
              <a:t>Presentation Goals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2236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2236ff"/>
                </a:solidFill>
                <a:latin typeface="Georgi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2236ff"/>
                </a:solidFill>
                <a:latin typeface="Georgia"/>
                <a:ea typeface="ＭＳ Ｐゴシック"/>
              </a:rPr>
              <a:t>Learn about local efforts in this new are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2236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  <a:ea typeface="ＭＳ Ｐゴシック"/>
              </a:rPr>
              <a:t>Share current statewide efforts that support CTE education in the context of A-G course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2236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2236ff"/>
                </a:solidFill>
                <a:latin typeface="Georgia"/>
                <a:ea typeface="ＭＳ Ｐゴシック"/>
              </a:rPr>
              <a:t>Develop a common understanding of the concept of “college and career ready” and its relationship to WL education, CTE and 21</a:t>
            </a:r>
            <a:r>
              <a:rPr b="0" lang="en-US" sz="2800" spc="-1" strike="noStrike" baseline="30000">
                <a:solidFill>
                  <a:srgbClr val="2236ff"/>
                </a:solidFill>
                <a:latin typeface="Georgia"/>
                <a:ea typeface="ＭＳ Ｐゴシック"/>
              </a:rPr>
              <a:t>st</a:t>
            </a:r>
            <a:r>
              <a:rPr b="0" lang="en-US" sz="2800" spc="-1" strike="noStrike">
                <a:solidFill>
                  <a:srgbClr val="2236ff"/>
                </a:solidFill>
                <a:latin typeface="Georgia"/>
                <a:ea typeface="ＭＳ Ｐゴシック"/>
              </a:rPr>
              <a:t> Century Skill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69" name="Picture 1" descr=""/>
          <p:cNvPicPr/>
          <p:nvPr/>
        </p:nvPicPr>
        <p:blipFill>
          <a:blip r:embed="rId1"/>
          <a:stretch/>
        </p:blipFill>
        <p:spPr>
          <a:xfrm>
            <a:off x="1019160" y="187200"/>
            <a:ext cx="1459080" cy="2187720"/>
          </a:xfrm>
          <a:prstGeom prst="rect">
            <a:avLst/>
          </a:prstGeom>
          <a:ln w="0">
            <a:noFill/>
          </a:ln>
        </p:spPr>
      </p:pic>
      <p:sp>
        <p:nvSpPr>
          <p:cNvPr id="570" name="TextBox 4"/>
          <p:cNvSpPr/>
          <p:nvPr/>
        </p:nvSpPr>
        <p:spPr>
          <a:xfrm>
            <a:off x="3403440" y="487440"/>
            <a:ext cx="5589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California Language Teachers</a:t>
            </a:r>
            <a:r>
              <a:rPr b="0" lang="ja-JP" sz="4200" spc="-1" strike="noStrike">
                <a:solidFill>
                  <a:srgbClr val="ff6600"/>
                </a:solidFill>
                <a:latin typeface="Bodoni SvtyTwo SC ITC TT-Book"/>
              </a:rPr>
              <a:t>’</a:t>
            </a: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 Association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Footer Placeholder 1"/>
          <p:cNvSpPr/>
          <p:nvPr/>
        </p:nvSpPr>
        <p:spPr>
          <a:xfrm>
            <a:off x="2478240" y="6410160"/>
            <a:ext cx="39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Bodoni SvtyTwo SC ITC TT-Book"/>
              </a:rPr>
              <a:t>21</a:t>
            </a:r>
            <a:r>
              <a:rPr b="0" lang="en-US" sz="1600" spc="-1" strike="noStrike" baseline="30000">
                <a:solidFill>
                  <a:srgbClr val="ff6600"/>
                </a:solidFill>
                <a:latin typeface="Bodoni SvtyTwo SC ITC TT-Book"/>
              </a:rPr>
              <a:t>ST</a:t>
            </a:r>
            <a:r>
              <a:rPr b="0" lang="en-US" sz="1600" spc="-1" strike="noStrike">
                <a:solidFill>
                  <a:srgbClr val="ff6600"/>
                </a:solidFill>
                <a:latin typeface="Bodoni SvtyTwo SC ITC TT-Book"/>
              </a:rPr>
              <a:t> CENTURY GLOBAL READINES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itle 1"/>
          <p:cNvSpPr/>
          <p:nvPr/>
        </p:nvSpPr>
        <p:spPr>
          <a:xfrm>
            <a:off x="163440" y="3579840"/>
            <a:ext cx="8829720" cy="2162160"/>
          </a:xfrm>
          <a:prstGeom prst="rect">
            <a:avLst/>
          </a:prstGeom>
          <a:solidFill>
            <a:srgbClr val="ffffff"/>
          </a:solidFill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Tanya Zaccone</a:t>
            </a: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Georgia"/>
                <a:hlinkClick r:id="rId1"/>
              </a:rPr>
              <a:t>tzaccone@surewest.ne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9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Svetlana Lazarova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Georgia"/>
                <a:hlinkClick r:id="rId2"/>
              </a:rPr>
              <a:t>slazarova@psusd.u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9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Duarte Silva</a:t>
            </a: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duarte.silva@stanford.edu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Subtitle 2"/>
          <p:cNvSpPr/>
          <p:nvPr/>
        </p:nvSpPr>
        <p:spPr>
          <a:xfrm>
            <a:off x="750960" y="5483160"/>
            <a:ext cx="765324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TextBox 4"/>
          <p:cNvSpPr/>
          <p:nvPr/>
        </p:nvSpPr>
        <p:spPr>
          <a:xfrm>
            <a:off x="3403440" y="487440"/>
            <a:ext cx="5589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California Language Teachers</a:t>
            </a:r>
            <a:r>
              <a:rPr b="0" lang="ja-JP" sz="4200" spc="-1" strike="noStrike">
                <a:solidFill>
                  <a:srgbClr val="ff6600"/>
                </a:solidFill>
                <a:latin typeface="Bodoni SvtyTwo SC ITC TT-Book"/>
              </a:rPr>
              <a:t>’</a:t>
            </a: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 Association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2" name="Picture 7" descr=""/>
          <p:cNvPicPr/>
          <p:nvPr/>
        </p:nvPicPr>
        <p:blipFill>
          <a:blip r:embed="rId3"/>
          <a:stretch/>
        </p:blipFill>
        <p:spPr>
          <a:xfrm>
            <a:off x="1019160" y="363600"/>
            <a:ext cx="1190520" cy="178416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1" descr=""/>
          <p:cNvPicPr/>
          <p:nvPr/>
        </p:nvPicPr>
        <p:blipFill>
          <a:blip r:embed="rId4"/>
          <a:stretch/>
        </p:blipFill>
        <p:spPr>
          <a:xfrm>
            <a:off x="1019160" y="187200"/>
            <a:ext cx="1459080" cy="2187720"/>
          </a:xfrm>
          <a:prstGeom prst="rect">
            <a:avLst/>
          </a:prstGeom>
          <a:ln w="0">
            <a:noFill/>
          </a:ln>
        </p:spPr>
      </p:pic>
      <p:sp>
        <p:nvSpPr>
          <p:cNvPr id="684" name="TextBox 4"/>
          <p:cNvSpPr/>
          <p:nvPr/>
        </p:nvSpPr>
        <p:spPr>
          <a:xfrm>
            <a:off x="1785960" y="6316560"/>
            <a:ext cx="588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Bodoni SvtyTwo SC ITC TT-Book"/>
              </a:rPr>
              <a:t>21</a:t>
            </a:r>
            <a:r>
              <a:rPr b="0" lang="en-US" sz="2000" spc="-1" strike="noStrike" baseline="30000">
                <a:solidFill>
                  <a:srgbClr val="ff6600"/>
                </a:solidFill>
                <a:latin typeface="Bodoni SvtyTwo SC ITC TT-Book"/>
              </a:rPr>
              <a:t>ST</a:t>
            </a:r>
            <a:r>
              <a:rPr b="0" lang="en-US" sz="2000" spc="-1" strike="noStrike">
                <a:solidFill>
                  <a:srgbClr val="ff6600"/>
                </a:solidFill>
                <a:latin typeface="Bodoni SvtyTwo SC ITC TT-Book"/>
              </a:rPr>
              <a:t> CENTURY GLOBAL READINES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TextBox 7"/>
          <p:cNvSpPr/>
          <p:nvPr/>
        </p:nvSpPr>
        <p:spPr>
          <a:xfrm>
            <a:off x="326880" y="2593800"/>
            <a:ext cx="866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944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236ff"/>
                </a:solidFill>
                <a:latin typeface="Georgia"/>
              </a:rPr>
              <a:t>FACILITATORS’ CONTACT INFORMATIO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10944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itle 1"/>
          <p:cNvSpPr/>
          <p:nvPr/>
        </p:nvSpPr>
        <p:spPr>
          <a:xfrm>
            <a:off x="533520" y="2374920"/>
            <a:ext cx="7985160" cy="1198440"/>
          </a:xfrm>
          <a:prstGeom prst="rect">
            <a:avLst/>
          </a:prstGeom>
          <a:solidFill>
            <a:srgbClr val="ffffff"/>
          </a:solidFill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236ff"/>
                </a:solidFill>
                <a:latin typeface="Georgia"/>
              </a:rPr>
              <a:t>Assessing Where We Are  Now?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Subtitle 2"/>
          <p:cNvSpPr/>
          <p:nvPr/>
        </p:nvSpPr>
        <p:spPr>
          <a:xfrm>
            <a:off x="750960" y="5483160"/>
            <a:ext cx="765324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TextBox 4"/>
          <p:cNvSpPr/>
          <p:nvPr/>
        </p:nvSpPr>
        <p:spPr>
          <a:xfrm>
            <a:off x="3403440" y="487440"/>
            <a:ext cx="5589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California Language Teachers</a:t>
            </a:r>
            <a:r>
              <a:rPr b="0" lang="ja-JP" sz="4200" spc="-1" strike="noStrike">
                <a:solidFill>
                  <a:srgbClr val="ff6600"/>
                </a:solidFill>
                <a:latin typeface="Bodoni SvtyTwo SC ITC TT-Book"/>
              </a:rPr>
              <a:t>’</a:t>
            </a: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 Association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75" name="Picture 7" descr=""/>
          <p:cNvPicPr/>
          <p:nvPr/>
        </p:nvPicPr>
        <p:blipFill>
          <a:blip r:embed="rId1"/>
          <a:stretch/>
        </p:blipFill>
        <p:spPr>
          <a:xfrm>
            <a:off x="1019160" y="363600"/>
            <a:ext cx="1190520" cy="178416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" descr=""/>
          <p:cNvPicPr/>
          <p:nvPr/>
        </p:nvPicPr>
        <p:blipFill>
          <a:blip r:embed="rId2"/>
          <a:stretch/>
        </p:blipFill>
        <p:spPr>
          <a:xfrm>
            <a:off x="1019160" y="187200"/>
            <a:ext cx="1459080" cy="2187720"/>
          </a:xfrm>
          <a:prstGeom prst="rect">
            <a:avLst/>
          </a:prstGeom>
          <a:ln w="0">
            <a:noFill/>
          </a:ln>
        </p:spPr>
      </p:pic>
      <p:sp>
        <p:nvSpPr>
          <p:cNvPr id="577" name="Footer Placeholder 1"/>
          <p:cNvSpPr/>
          <p:nvPr/>
        </p:nvSpPr>
        <p:spPr>
          <a:xfrm>
            <a:off x="2006640" y="6410160"/>
            <a:ext cx="441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Bodoni SvtyTwo SC ITC TT-Book"/>
              </a:rPr>
              <a:t>21</a:t>
            </a:r>
            <a:r>
              <a:rPr b="0" lang="en-US" sz="1800" spc="-1" strike="noStrike" baseline="30000">
                <a:solidFill>
                  <a:srgbClr val="ff6600"/>
                </a:solidFill>
                <a:latin typeface="Bodoni SvtyTwo SC ITC TT-Book"/>
              </a:rPr>
              <a:t>ST</a:t>
            </a:r>
            <a:r>
              <a:rPr b="0" lang="en-US" sz="1800" spc="-1" strike="noStrike">
                <a:solidFill>
                  <a:srgbClr val="ff6600"/>
                </a:solidFill>
                <a:latin typeface="Bodoni SvtyTwo SC ITC TT-Book"/>
              </a:rPr>
              <a:t> CENTURY GLOBAL READINES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Title 1"/>
          <p:cNvSpPr/>
          <p:nvPr/>
        </p:nvSpPr>
        <p:spPr>
          <a:xfrm>
            <a:off x="533520" y="3573360"/>
            <a:ext cx="7985160" cy="2662200"/>
          </a:xfrm>
          <a:prstGeom prst="rect">
            <a:avLst/>
          </a:prstGeom>
          <a:solidFill>
            <a:srgbClr val="ffffff"/>
          </a:solidFill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1023840" indent="-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eorgia"/>
                <a:ea typeface="MS PGothic"/>
              </a:rPr>
              <a:t>Name and Schoo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1023840" indent="-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  <a:ea typeface="MS PGothic"/>
              </a:rPr>
              <a:t>What comes to your mind when you hear the term </a:t>
            </a:r>
            <a:r>
              <a:rPr b="0" lang="ja-JP" sz="2800" spc="-1" strike="noStrike">
                <a:solidFill>
                  <a:srgbClr val="ff0000"/>
                </a:solidFill>
                <a:latin typeface="Georgia"/>
                <a:ea typeface="MS PGothic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  <a:ea typeface="MS PGothic"/>
              </a:rPr>
              <a:t>college and career ready</a:t>
            </a:r>
            <a:r>
              <a:rPr b="0" lang="ja-JP" sz="2800" spc="-1" strike="noStrike">
                <a:solidFill>
                  <a:srgbClr val="ff0000"/>
                </a:solidFill>
                <a:latin typeface="Georgia"/>
                <a:ea typeface="MS PGothic"/>
              </a:rPr>
              <a:t>”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  <a:ea typeface="MS PGothic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1023840" indent="-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eorgia"/>
                <a:ea typeface="MS PGothic"/>
              </a:rPr>
              <a:t>What CTE/World Language efforts are currently happening in your school/district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178920" y="150804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 Antiqua"/>
              </a:rPr>
              <a:t>To be college, career and world ready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80" name="Picture 2" descr="http://www.nurseweb.villanova.edu/womenwithdisabilities/Stress/Thought2.jpg"/>
          <p:cNvPicPr/>
          <p:nvPr/>
        </p:nvPicPr>
        <p:blipFill>
          <a:blip r:embed="rId1"/>
          <a:stretch/>
        </p:blipFill>
        <p:spPr>
          <a:xfrm>
            <a:off x="3100320" y="2746440"/>
            <a:ext cx="5388120" cy="3333600"/>
          </a:xfrm>
          <a:prstGeom prst="rect">
            <a:avLst/>
          </a:prstGeom>
          <a:ln w="0">
            <a:noFill/>
          </a:ln>
        </p:spPr>
      </p:pic>
      <p:sp>
        <p:nvSpPr>
          <p:cNvPr id="581" name="Title 1"/>
          <p:cNvSpPr/>
          <p:nvPr/>
        </p:nvSpPr>
        <p:spPr>
          <a:xfrm>
            <a:off x="228600" y="504720"/>
            <a:ext cx="88376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2236ff"/>
                </a:solidFill>
                <a:latin typeface="Georgia"/>
              </a:rPr>
              <a:t>What Students Should Know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2236ff"/>
                </a:solidFill>
                <a:latin typeface="Georgia"/>
              </a:rPr>
              <a:t>and be Able to do…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TextBox 4"/>
          <p:cNvSpPr/>
          <p:nvPr/>
        </p:nvSpPr>
        <p:spPr>
          <a:xfrm>
            <a:off x="1785960" y="6316560"/>
            <a:ext cx="588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Bodoni SvtyTwo SC ITC TT-Book"/>
              </a:rPr>
              <a:t>21</a:t>
            </a:r>
            <a:r>
              <a:rPr b="0" lang="en-US" sz="2000" spc="-1" strike="noStrike" baseline="30000">
                <a:solidFill>
                  <a:srgbClr val="ff6600"/>
                </a:solidFill>
                <a:latin typeface="Bodoni SvtyTwo SC ITC TT-Book"/>
              </a:rPr>
              <a:t>ST</a:t>
            </a:r>
            <a:r>
              <a:rPr b="0" lang="en-US" sz="2000" spc="-1" strike="noStrike">
                <a:solidFill>
                  <a:srgbClr val="ff6600"/>
                </a:solidFill>
                <a:latin typeface="Bodoni SvtyTwo SC ITC TT-Book"/>
              </a:rPr>
              <a:t> CENTURY GLOBAL READINES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3" name="TextBox 6"/>
          <p:cNvSpPr/>
          <p:nvPr/>
        </p:nvSpPr>
        <p:spPr>
          <a:xfrm>
            <a:off x="4162320" y="3784680"/>
            <a:ext cx="350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Begin with the end in min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itle 1"/>
          <p:cNvSpPr/>
          <p:nvPr/>
        </p:nvSpPr>
        <p:spPr>
          <a:xfrm>
            <a:off x="533520" y="3143160"/>
            <a:ext cx="7985160" cy="1470240"/>
          </a:xfrm>
          <a:prstGeom prst="rect">
            <a:avLst/>
          </a:prstGeom>
          <a:solidFill>
            <a:srgbClr val="ffffff"/>
          </a:solidFill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2236ff"/>
                </a:solidFill>
                <a:latin typeface="Georgia"/>
                <a:ea typeface="ＭＳ Ｐゴシック"/>
              </a:rPr>
              <a:t>World Language Content Standards/CTE Sectors/21</a:t>
            </a:r>
            <a:r>
              <a:rPr b="0" lang="en-US" sz="3700" spc="-1" strike="noStrike" baseline="30000">
                <a:solidFill>
                  <a:srgbClr val="2236ff"/>
                </a:solidFill>
                <a:latin typeface="Georgia"/>
                <a:ea typeface="ＭＳ Ｐゴシック"/>
              </a:rPr>
              <a:t>st</a:t>
            </a:r>
            <a:r>
              <a:rPr b="0" lang="en-US" sz="3700" spc="-1" strike="noStrike">
                <a:solidFill>
                  <a:srgbClr val="2236ff"/>
                </a:solidFill>
                <a:latin typeface="Georgia"/>
                <a:ea typeface="ＭＳ Ｐゴシック"/>
              </a:rPr>
              <a:t> Century Skills</a:t>
            </a:r>
            <a:endParaRPr b="0" lang="en-US" sz="3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Subtitle 2"/>
          <p:cNvSpPr/>
          <p:nvPr/>
        </p:nvSpPr>
        <p:spPr>
          <a:xfrm>
            <a:off x="750960" y="5483160"/>
            <a:ext cx="765324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TextBox 4"/>
          <p:cNvSpPr/>
          <p:nvPr/>
        </p:nvSpPr>
        <p:spPr>
          <a:xfrm>
            <a:off x="3403440" y="487440"/>
            <a:ext cx="5589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California Language Teachers</a:t>
            </a:r>
            <a:r>
              <a:rPr b="0" lang="ja-JP" sz="4200" spc="-1" strike="noStrike">
                <a:solidFill>
                  <a:srgbClr val="ff6600"/>
                </a:solidFill>
                <a:latin typeface="Bodoni SvtyTwo SC ITC TT-Book"/>
              </a:rPr>
              <a:t>’</a:t>
            </a: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 Association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87" name="Picture 7" descr=""/>
          <p:cNvPicPr/>
          <p:nvPr/>
        </p:nvPicPr>
        <p:blipFill>
          <a:blip r:embed="rId1"/>
          <a:stretch/>
        </p:blipFill>
        <p:spPr>
          <a:xfrm>
            <a:off x="1019160" y="363600"/>
            <a:ext cx="1190520" cy="178416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1" descr=""/>
          <p:cNvPicPr/>
          <p:nvPr/>
        </p:nvPicPr>
        <p:blipFill>
          <a:blip r:embed="rId2"/>
          <a:stretch/>
        </p:blipFill>
        <p:spPr>
          <a:xfrm>
            <a:off x="1019160" y="187200"/>
            <a:ext cx="1459080" cy="2187720"/>
          </a:xfrm>
          <a:prstGeom prst="rect">
            <a:avLst/>
          </a:prstGeom>
          <a:ln w="0">
            <a:noFill/>
          </a:ln>
        </p:spPr>
      </p:pic>
      <p:sp>
        <p:nvSpPr>
          <p:cNvPr id="589" name="TextBox 4"/>
          <p:cNvSpPr/>
          <p:nvPr/>
        </p:nvSpPr>
        <p:spPr>
          <a:xfrm>
            <a:off x="1785960" y="6357960"/>
            <a:ext cx="588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Bodoni SvtyTwo SC ITC TT-Book"/>
              </a:rPr>
              <a:t>21</a:t>
            </a:r>
            <a:r>
              <a:rPr b="0" lang="en-US" sz="2000" spc="-1" strike="noStrike" baseline="30000">
                <a:solidFill>
                  <a:srgbClr val="ff6600"/>
                </a:solidFill>
                <a:latin typeface="Bodoni SvtyTwo SC ITC TT-Book"/>
              </a:rPr>
              <a:t>ST</a:t>
            </a:r>
            <a:r>
              <a:rPr b="0" lang="en-US" sz="2000" spc="-1" strike="noStrike">
                <a:solidFill>
                  <a:srgbClr val="ff6600"/>
                </a:solidFill>
                <a:latin typeface="Bodoni SvtyTwo SC ITC TT-Book"/>
              </a:rPr>
              <a:t> CENTURY GLOBAL READINES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Subtitle 2"/>
          <p:cNvSpPr/>
          <p:nvPr/>
        </p:nvSpPr>
        <p:spPr>
          <a:xfrm>
            <a:off x="750960" y="5483160"/>
            <a:ext cx="765324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TextBox 4"/>
          <p:cNvSpPr/>
          <p:nvPr/>
        </p:nvSpPr>
        <p:spPr>
          <a:xfrm>
            <a:off x="2816280" y="501480"/>
            <a:ext cx="5589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odoni SvtyTwo SC ITC TT-Book"/>
              </a:rPr>
              <a:t>CTE</a:t>
            </a: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 </a:t>
            </a:r>
            <a:r>
              <a:rPr b="0" lang="en-US" sz="3200" spc="-1" strike="noStrike">
                <a:solidFill>
                  <a:srgbClr val="ff6600"/>
                </a:solidFill>
                <a:latin typeface="Bodoni SvtyTwo SC ITC TT-Book"/>
              </a:rPr>
              <a:t>INDUSTRY SECTOR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92" name="Picture 7" descr=""/>
          <p:cNvPicPr/>
          <p:nvPr/>
        </p:nvPicPr>
        <p:blipFill>
          <a:blip r:embed="rId1"/>
          <a:stretch/>
        </p:blipFill>
        <p:spPr>
          <a:xfrm>
            <a:off x="1019160" y="363600"/>
            <a:ext cx="1190520" cy="178416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" descr=""/>
          <p:cNvPicPr/>
          <p:nvPr/>
        </p:nvPicPr>
        <p:blipFill>
          <a:blip r:embed="rId2"/>
          <a:stretch/>
        </p:blipFill>
        <p:spPr>
          <a:xfrm>
            <a:off x="1019160" y="187200"/>
            <a:ext cx="1459080" cy="2187720"/>
          </a:xfrm>
          <a:prstGeom prst="rect">
            <a:avLst/>
          </a:prstGeom>
          <a:ln w="0">
            <a:noFill/>
          </a:ln>
        </p:spPr>
      </p:pic>
      <p:sp>
        <p:nvSpPr>
          <p:cNvPr id="594" name="Footer Placeholder 1"/>
          <p:cNvSpPr/>
          <p:nvPr/>
        </p:nvSpPr>
        <p:spPr>
          <a:xfrm>
            <a:off x="281628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Bodoni SvtyTwo SC ITC TT-Book"/>
              </a:rPr>
              <a:t>21</a:t>
            </a:r>
            <a:r>
              <a:rPr b="0" lang="en-US" sz="1200" spc="-1" strike="noStrike" baseline="30000">
                <a:solidFill>
                  <a:srgbClr val="ff6600"/>
                </a:solidFill>
                <a:latin typeface="Bodoni SvtyTwo SC ITC TT-Book"/>
              </a:rPr>
              <a:t>ST</a:t>
            </a:r>
            <a:r>
              <a:rPr b="0" lang="en-US" sz="1200" spc="-1" strike="noStrike">
                <a:solidFill>
                  <a:srgbClr val="ff6600"/>
                </a:solidFill>
                <a:latin typeface="Bodoni SvtyTwo SC ITC TT-Book"/>
              </a:rPr>
              <a:t> CENTURY GLOBAL READINESS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95" name="Content Placeholder 5" descr="Screen shot 2013-02-19 at 1.10.03 PM.png"/>
          <p:cNvPicPr/>
          <p:nvPr/>
        </p:nvPicPr>
        <p:blipFill>
          <a:blip r:embed="rId3"/>
          <a:srcRect l="-380" t="0" r="-1000" b="0"/>
          <a:stretch/>
        </p:blipFill>
        <p:spPr>
          <a:xfrm>
            <a:off x="304920" y="1623960"/>
            <a:ext cx="82659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itle 1"/>
          <p:cNvSpPr/>
          <p:nvPr/>
        </p:nvSpPr>
        <p:spPr>
          <a:xfrm>
            <a:off x="209520" y="2630520"/>
            <a:ext cx="8783640" cy="3240000"/>
          </a:xfrm>
          <a:prstGeom prst="rect">
            <a:avLst/>
          </a:prstGeom>
          <a:solidFill>
            <a:srgbClr val="ffffff"/>
          </a:solidFill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Subtitle 2"/>
          <p:cNvSpPr/>
          <p:nvPr/>
        </p:nvSpPr>
        <p:spPr>
          <a:xfrm>
            <a:off x="750960" y="5483160"/>
            <a:ext cx="765324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TextBox 4"/>
          <p:cNvSpPr/>
          <p:nvPr/>
        </p:nvSpPr>
        <p:spPr>
          <a:xfrm>
            <a:off x="3403440" y="487440"/>
            <a:ext cx="5589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California Language Teachers</a:t>
            </a:r>
            <a:r>
              <a:rPr b="0" lang="ja-JP" sz="4200" spc="-1" strike="noStrike">
                <a:solidFill>
                  <a:srgbClr val="ff6600"/>
                </a:solidFill>
                <a:latin typeface="Bodoni SvtyTwo SC ITC TT-Book"/>
              </a:rPr>
              <a:t>’</a:t>
            </a: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 Association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99" name="Picture 7" descr=""/>
          <p:cNvPicPr/>
          <p:nvPr/>
        </p:nvPicPr>
        <p:blipFill>
          <a:blip r:embed="rId1"/>
          <a:stretch/>
        </p:blipFill>
        <p:spPr>
          <a:xfrm>
            <a:off x="1019160" y="363600"/>
            <a:ext cx="1190520" cy="178416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1" descr=""/>
          <p:cNvPicPr/>
          <p:nvPr/>
        </p:nvPicPr>
        <p:blipFill>
          <a:blip r:embed="rId2"/>
          <a:stretch/>
        </p:blipFill>
        <p:spPr>
          <a:xfrm>
            <a:off x="1019160" y="187200"/>
            <a:ext cx="1459080" cy="2187720"/>
          </a:xfrm>
          <a:prstGeom prst="rect">
            <a:avLst/>
          </a:prstGeom>
          <a:ln w="0">
            <a:noFill/>
          </a:ln>
        </p:spPr>
      </p:pic>
      <p:sp>
        <p:nvSpPr>
          <p:cNvPr id="601" name="TextBox 4"/>
          <p:cNvSpPr/>
          <p:nvPr/>
        </p:nvSpPr>
        <p:spPr>
          <a:xfrm>
            <a:off x="1785960" y="6316560"/>
            <a:ext cx="588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Bodoni SvtyTwo SC ITC TT-Book"/>
              </a:rPr>
              <a:t>21</a:t>
            </a:r>
            <a:r>
              <a:rPr b="0" lang="en-US" sz="2000" spc="-1" strike="noStrike" baseline="30000">
                <a:solidFill>
                  <a:srgbClr val="ff6600"/>
                </a:solidFill>
                <a:latin typeface="Bodoni SvtyTwo SC ITC TT-Book"/>
              </a:rPr>
              <a:t>ST</a:t>
            </a:r>
            <a:r>
              <a:rPr b="0" lang="en-US" sz="2000" spc="-1" strike="noStrike">
                <a:solidFill>
                  <a:srgbClr val="ff6600"/>
                </a:solidFill>
                <a:latin typeface="Bodoni SvtyTwo SC ITC TT-Book"/>
              </a:rPr>
              <a:t> CENTURY GLOBAL READINES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122040" y="2630160"/>
            <a:ext cx="287964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Georgia"/>
              </a:rPr>
              <a:t>CTE and      21</a:t>
            </a:r>
            <a:r>
              <a:rPr b="0" lang="en-US" sz="4000" spc="-1" strike="noStrike" baseline="30000">
                <a:solidFill>
                  <a:srgbClr val="0000ff"/>
                </a:solidFill>
                <a:latin typeface="Georgia"/>
              </a:rPr>
              <a:t>st</a:t>
            </a:r>
            <a:r>
              <a:rPr b="0" lang="en-US" sz="4000" spc="-1" strike="noStrike">
                <a:solidFill>
                  <a:srgbClr val="0000ff"/>
                </a:solidFill>
                <a:latin typeface="Georgia"/>
              </a:rPr>
              <a:t> Century Skills Map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03" name="Picture 7" descr=""/>
          <p:cNvPicPr/>
          <p:nvPr/>
        </p:nvPicPr>
        <p:blipFill>
          <a:blip r:embed="rId3"/>
          <a:stretch/>
        </p:blipFill>
        <p:spPr>
          <a:xfrm>
            <a:off x="2879640" y="2128680"/>
            <a:ext cx="586584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210600" y="171936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Book Antiqua"/>
              </a:rPr>
              <a:t>Global Awarenes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Book Antiqua"/>
              </a:rPr>
              <a:t>Financial, Economic, </a:t>
            </a:r>
            <a:br>
              <a:rPr sz="2700"/>
            </a:br>
            <a:r>
              <a:rPr b="0" lang="en-US" sz="2700" spc="-1" strike="noStrike">
                <a:solidFill>
                  <a:srgbClr val="0000ff"/>
                </a:solidFill>
                <a:latin typeface="Book Antiqua"/>
              </a:rPr>
              <a:t>Business and </a:t>
            </a:r>
            <a:br>
              <a:rPr sz="2700"/>
            </a:br>
            <a:r>
              <a:rPr b="0" lang="en-US" sz="2700" spc="-1" strike="noStrike">
                <a:solidFill>
                  <a:srgbClr val="ff0000"/>
                </a:solidFill>
                <a:latin typeface="Book Antiqua"/>
              </a:rPr>
              <a:t>Entrepreneurial Literac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Book Antiqua"/>
              </a:rPr>
              <a:t>Civic Literac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Book Antiqua"/>
              </a:rPr>
              <a:t>Health and Environmental</a:t>
            </a:r>
            <a:br>
              <a:rPr sz="2700"/>
            </a:br>
            <a:r>
              <a:rPr b="0" lang="en-US" sz="2700" spc="-1" strike="noStrike">
                <a:solidFill>
                  <a:srgbClr val="ff0000"/>
                </a:solidFill>
                <a:latin typeface="Book Antiqua"/>
              </a:rPr>
              <a:t> Literac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05" name="Picture 6" descr="P21Graphic.png"/>
          <p:cNvPicPr/>
          <p:nvPr/>
        </p:nvPicPr>
        <p:blipFill>
          <a:blip r:embed="rId1"/>
          <a:stretch/>
        </p:blipFill>
        <p:spPr>
          <a:xfrm>
            <a:off x="4818240" y="1719360"/>
            <a:ext cx="4032000" cy="2971800"/>
          </a:xfrm>
          <a:prstGeom prst="rect">
            <a:avLst/>
          </a:prstGeom>
          <a:ln w="0">
            <a:noFill/>
          </a:ln>
        </p:spPr>
      </p:pic>
      <p:sp>
        <p:nvSpPr>
          <p:cNvPr id="606" name="Title 1"/>
          <p:cNvSpPr/>
          <p:nvPr/>
        </p:nvSpPr>
        <p:spPr>
          <a:xfrm>
            <a:off x="210960" y="217440"/>
            <a:ext cx="883764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2236ff"/>
                </a:solidFill>
                <a:latin typeface="Georgia"/>
              </a:rPr>
              <a:t>P21 Interdisciplinary Themes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TextBox 4"/>
          <p:cNvSpPr/>
          <p:nvPr/>
        </p:nvSpPr>
        <p:spPr>
          <a:xfrm>
            <a:off x="1785960" y="6316560"/>
            <a:ext cx="588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Bodoni SvtyTwo SC ITC TT-Book"/>
              </a:rPr>
              <a:t>21</a:t>
            </a:r>
            <a:r>
              <a:rPr b="0" lang="en-US" sz="2000" spc="-1" strike="noStrike" baseline="30000">
                <a:solidFill>
                  <a:srgbClr val="ff6600"/>
                </a:solidFill>
                <a:latin typeface="Bodoni SvtyTwo SC ITC TT-Book"/>
              </a:rPr>
              <a:t>ST</a:t>
            </a:r>
            <a:r>
              <a:rPr b="0" lang="en-US" sz="2000" spc="-1" strike="noStrike">
                <a:solidFill>
                  <a:srgbClr val="ff6600"/>
                </a:solidFill>
                <a:latin typeface="Bodoni SvtyTwo SC ITC TT-Book"/>
              </a:rPr>
              <a:t> CENTURY GLOBAL READINES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Subtitle 2"/>
          <p:cNvSpPr/>
          <p:nvPr/>
        </p:nvSpPr>
        <p:spPr>
          <a:xfrm>
            <a:off x="750960" y="5483160"/>
            <a:ext cx="765324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TextBox 4"/>
          <p:cNvSpPr/>
          <p:nvPr/>
        </p:nvSpPr>
        <p:spPr>
          <a:xfrm>
            <a:off x="3403440" y="487440"/>
            <a:ext cx="5589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California Language Teachers</a:t>
            </a:r>
            <a:r>
              <a:rPr b="0" lang="ja-JP" sz="4200" spc="-1" strike="noStrike">
                <a:solidFill>
                  <a:srgbClr val="ff6600"/>
                </a:solidFill>
                <a:latin typeface="Bodoni SvtyTwo SC ITC TT-Book"/>
              </a:rPr>
              <a:t>’</a:t>
            </a:r>
            <a:r>
              <a:rPr b="0" lang="en-US" sz="4200" spc="-1" strike="noStrike">
                <a:solidFill>
                  <a:srgbClr val="ff6600"/>
                </a:solidFill>
                <a:latin typeface="Bodoni SvtyTwo SC ITC TT-Book"/>
              </a:rPr>
              <a:t> Association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0" name="Picture 7" descr=""/>
          <p:cNvPicPr/>
          <p:nvPr/>
        </p:nvPicPr>
        <p:blipFill>
          <a:blip r:embed="rId1"/>
          <a:stretch/>
        </p:blipFill>
        <p:spPr>
          <a:xfrm>
            <a:off x="1019160" y="363600"/>
            <a:ext cx="1190520" cy="178416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1" descr=""/>
          <p:cNvPicPr/>
          <p:nvPr/>
        </p:nvPicPr>
        <p:blipFill>
          <a:blip r:embed="rId2"/>
          <a:stretch/>
        </p:blipFill>
        <p:spPr>
          <a:xfrm>
            <a:off x="1019160" y="187200"/>
            <a:ext cx="1459080" cy="2187720"/>
          </a:xfrm>
          <a:prstGeom prst="rect">
            <a:avLst/>
          </a:prstGeom>
          <a:ln w="0">
            <a:noFill/>
          </a:ln>
        </p:spPr>
      </p:pic>
      <p:sp>
        <p:nvSpPr>
          <p:cNvPr id="612" name="TextBox 4"/>
          <p:cNvSpPr/>
          <p:nvPr/>
        </p:nvSpPr>
        <p:spPr>
          <a:xfrm>
            <a:off x="1785960" y="6316560"/>
            <a:ext cx="588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Bodoni SvtyTwo SC ITC TT-Book"/>
              </a:rPr>
              <a:t>21</a:t>
            </a:r>
            <a:r>
              <a:rPr b="0" lang="en-US" sz="2000" spc="-1" strike="noStrike" baseline="30000">
                <a:solidFill>
                  <a:srgbClr val="ff6600"/>
                </a:solidFill>
                <a:latin typeface="Bodoni SvtyTwo SC ITC TT-Book"/>
              </a:rPr>
              <a:t>ST</a:t>
            </a:r>
            <a:r>
              <a:rPr b="0" lang="en-US" sz="2000" spc="-1" strike="noStrike">
                <a:solidFill>
                  <a:srgbClr val="ff6600"/>
                </a:solidFill>
                <a:latin typeface="Bodoni SvtyTwo SC ITC TT-Book"/>
              </a:rPr>
              <a:t> CENTURY GLOBAL READINES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3" name="Content Placeholder 6"/>
          <p:cNvSpPr/>
          <p:nvPr/>
        </p:nvSpPr>
        <p:spPr>
          <a:xfrm>
            <a:off x="5032440" y="3144960"/>
            <a:ext cx="36036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eorgia"/>
              </a:rPr>
              <a:t>Flexibility and Adaptabilit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Georgia"/>
              </a:rPr>
              <a:t>Initiative and Self-Direc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eorgia"/>
              </a:rPr>
              <a:t>Social and Cross-Cultural Skill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Georgia"/>
              </a:rPr>
              <a:t>Productivity and Accountabilit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eorgia"/>
              </a:rPr>
              <a:t>Leadership and Responsibilit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Content Placeholder 5"/>
          <p:cNvSpPr/>
          <p:nvPr/>
        </p:nvSpPr>
        <p:spPr>
          <a:xfrm>
            <a:off x="555480" y="3132000"/>
            <a:ext cx="4038840" cy="30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Georgia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eorgia"/>
              </a:rPr>
              <a:t>Collabora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Georgia"/>
              </a:rPr>
              <a:t>Critical Thinking and Problem Solvi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eorgia"/>
              </a:rPr>
              <a:t>Creativity and Innova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Georgia"/>
              </a:rPr>
              <a:t>Information Literac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eorgia"/>
              </a:rPr>
              <a:t>Media Literac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Georgia"/>
              </a:rPr>
              <a:t>Technology Literac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Title 4"/>
          <p:cNvSpPr/>
          <p:nvPr/>
        </p:nvSpPr>
        <p:spPr>
          <a:xfrm>
            <a:off x="301680" y="2346480"/>
            <a:ext cx="853452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Georgia"/>
              </a:rPr>
              <a:t>World Language 21</a:t>
            </a:r>
            <a:r>
              <a:rPr b="0" lang="en-US" sz="2800" spc="-1" strike="noStrike" baseline="30000">
                <a:solidFill>
                  <a:srgbClr val="4f81bd"/>
                </a:solidFill>
                <a:latin typeface="Georgia"/>
              </a:rPr>
              <a:t>st</a:t>
            </a:r>
            <a:r>
              <a:rPr b="0" lang="en-US" sz="2800" spc="-1" strike="noStrike">
                <a:solidFill>
                  <a:srgbClr val="4f81bd"/>
                </a:solidFill>
                <a:latin typeface="Georgia"/>
              </a:rPr>
              <a:t> Century Skills Map Domain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6T03:39:14Z</dcterms:created>
  <dc:creator>julie morsellino</dc:creator>
  <dc:description/>
  <dc:language>en-US</dc:language>
  <cp:lastModifiedBy>Silva Duarte</cp:lastModifiedBy>
  <dcterms:modified xsi:type="dcterms:W3CDTF">2013-07-20T13:43:57Z</dcterms:modified>
  <cp:revision>173</cp:revision>
  <dc:subject/>
  <dc:title>Slide 1</dc:title>
</cp:coreProperties>
</file>